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F7F3-0AF6-49AE-8D05-29D23F797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934B-41EB-43DF-B8D3-2D806EFBA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EBB4-94D8-4E91-AF55-ACE944A90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AC04-7E81-4D60-B436-DCDC5A8F3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6B210-2B98-4F8A-AEFE-529C20BB4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059BB-4757-4F0A-9A83-BA0DB9246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27005-9940-4886-9093-2594F3D41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A3F96-4952-4F8F-9F6F-C8491DB25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DC577-5B18-4F60-A3FB-51214C834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3F9B2-EEE1-4AA5-9E42-B6FA12925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E2C39-D65C-46EB-B6AE-E9021EB5E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42F2-AF10-4865-A71A-69911CBA6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57ABD-1F57-492D-84CA-812E148D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C8C73-B500-415F-B0F6-F599BB15F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E2997-EDAA-4382-A6EC-9FF02B8ED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B9F66-1B86-460F-B949-557E898D9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CAA0F-7F16-42BE-84F0-3FE420C1B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8231-624B-4621-AF7B-0D9276FB9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7C30-EDD6-429D-B481-C53926293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B431-8D6F-4EA1-B04D-8E5A8C974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92F8-AB7E-4F28-8F66-B7BA38EB0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A57D-4330-4140-A77D-2B76C710A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7DEF-C055-4375-AF60-C189468CB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0B6D-3DF7-4FBE-925A-86D8324E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C57C2-73CC-46B7-890C-7A472884C44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E9A3F-62CE-4168-82FC-64E556A49A1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parknotes.com/" TargetMode="Externa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americanliterature.com/" TargetMode="Externa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Speech%20to%20Text-%20Voice%20Recognition%20Instructions(2).docm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Reconstruction%20Test.docm" TargetMode="External"/><Relationship Id="rId3" Type="http://schemas.openxmlformats.org/officeDocument/2006/relationships/hyperlink" Target="http://www.americanliterature.com/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bytecool.com/voices.htm" TargetMode="External"/><Relationship Id="rId3" Type="http://schemas.openxmlformats.org/officeDocument/2006/relationships/hyperlink" Target="http://www.naturalreaders.com/" TargetMode="External"/><Relationship Id="rId4" Type="http://schemas.openxmlformats.org/officeDocument/2006/relationships/hyperlink" Target="http://cepstral.com/demos/" TargetMode="External"/><Relationship Id="rId5" Type="http://schemas.openxmlformats.org/officeDocument/2006/relationships/hyperlink" Target="http://www.naturalvoices.att.com/" TargetMode="External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Instructions%20for%20Using%20Microsoft%20Excel%20to%20Read%20Text.docm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Using Microsoft Word in the Classroom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010280" y="228600"/>
            <a:ext cx="166068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eadability Level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monstr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www.sparknotes.c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99"/>
                </a:solidFill>
                <a:latin typeface="Arial Black"/>
              </a:rPr>
              <a:t>Animal Farm 12.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99"/>
                </a:solidFill>
                <a:latin typeface="Arial Black"/>
              </a:rPr>
              <a:t>Animal Farm 10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99"/>
                </a:solidFill>
                <a:latin typeface="Arial Black"/>
              </a:rPr>
              <a:t>Animal Farm 9.6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99"/>
                </a:solidFill>
                <a:latin typeface="Arial Black"/>
              </a:rPr>
              <a:t>Animal Farm 7.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etermining Read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dditional Examp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www.americanliterature.com/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3399"/>
                </a:solidFill>
                <a:latin typeface="Arial Black"/>
              </a:rPr>
              <a:t>LITTLE RED RIDING HOOD 6.5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xtbook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3399"/>
                </a:solidFill>
                <a:latin typeface="Verdana"/>
              </a:rPr>
              <a:t>Chapter 20-2 8.7 reading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3399"/>
                </a:solidFill>
                <a:latin typeface="Verdana"/>
              </a:rPr>
              <a:t>Chapter 20-2 7.1 reading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399"/>
                </a:solidFill>
                <a:latin typeface="Arial Black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sing Readability to Increase Student Wri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99"/>
                </a:solidFill>
                <a:latin typeface="Arial Black"/>
              </a:rPr>
              <a:t>A DAY IN THE LIFE-JACK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581280" y="3200400"/>
            <a:ext cx="217332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447920" y="582480"/>
            <a:ext cx="6095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ell MT"/>
                <a:ea typeface="Times New Roman"/>
              </a:rPr>
              <a:t>How Can I Use Word in My Classro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533520" y="2209680"/>
          <a:ext cx="8367480" cy="4218120"/>
        </p:xfrm>
        <a:graphic>
          <a:graphicData uri="http://schemas.openxmlformats.org/drawingml/2006/table">
            <a:tbl>
              <a:tblPr/>
              <a:tblGrid>
                <a:gridCol w="2789280"/>
                <a:gridCol w="2788920"/>
                <a:gridCol w="27892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ell MT"/>
                          <a:ea typeface="Times New Roman"/>
                        </a:rPr>
                        <a:t>Text to Spee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ell MT"/>
                          <a:ea typeface="Times New Roman"/>
                        </a:rPr>
                        <a:t>Text to 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ell MT"/>
                        </a:rPr>
                        <a:t>Readabi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83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"/>
          <p:cNvSpPr/>
          <p:nvPr/>
        </p:nvSpPr>
        <p:spPr>
          <a:xfrm>
            <a:off x="0" y="420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042400" cy="15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y it all out!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ssignment: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reate a differentiated reading assignment for your clas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bjective for the lesson should focus on comprehension of tex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ifferentiate for 3 reading leve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On grad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1-2 grade levels below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1-2 grade levels abov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lan should include all three uses for WORD (speech to text, text to speech, readability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ifferentiating” :  Sounds great, but ……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y differentiate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can/do you differentiate in the classroom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resources can/do you use to meet the needs of each student in the classroom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difficult is this to do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much time does it take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peech to Text: Voice Recogni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s?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udents with reading/spelling disab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udents with poor fine motor coordin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crease speaking fluency in students with poor spee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peech to Text: Voice Recogni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4840" y="1752480"/>
            <a:ext cx="8543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y it out!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336699"/>
                </a:solidFill>
                <a:uFillTx/>
                <a:latin typeface="Arial Black"/>
                <a:hlinkClick r:id="rId2"/>
              </a:rPr>
              <a:t>Speech to Text-Voice Recognition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ther Use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ext to Speech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ses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est taking modifica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ifferentiating reading level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istening comprehension practi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dividualiz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ext to Speech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71520" y="1752480"/>
            <a:ext cx="8391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monstration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ing Exc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99"/>
                </a:solidFill>
                <a:uFillTx/>
                <a:latin typeface="Arial Black"/>
                <a:hlinkClick r:id="rId2"/>
              </a:rPr>
              <a:t>Reconstruction Tes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http://www.americanliterature.com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ing Microsoft 2007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ext to Speech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www.bytecool.com/voices.ht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ree and Fee downloadable voices (voices for a fee are higher quality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http://www.naturalreaders.com/#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http://cepstral.com/demos/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http://www.naturalvoices.att.com/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ext to Speech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y it out!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336699"/>
                </a:solidFill>
                <a:uFillTx/>
                <a:latin typeface="Arial Black"/>
                <a:hlinkClick r:id="rId2"/>
              </a:rPr>
              <a:t>Instructions for Using Microsoft Excel to read tex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ther Uses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eadability Level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dify tests/tex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ifferentiate reading instruction for different reading levels while maintaining cont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crease writing skill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to: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99"/>
                </a:solidFill>
                <a:latin typeface="Bell MT"/>
              </a:rPr>
              <a:t>Instructions for Determining Readability Leve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14:42:53Z</dcterms:created>
  <dc:creator>Jenn</dc:creator>
  <dc:description/>
  <dc:language>en-US</dc:language>
  <cp:lastModifiedBy>User</cp:lastModifiedBy>
  <dcterms:modified xsi:type="dcterms:W3CDTF">2009-01-23T14:42:53Z</dcterms:modified>
  <cp:revision>9</cp:revision>
  <dc:subject/>
  <dc:title>Using Microsoft Word in the Classroom</dc:title>
</cp:coreProperties>
</file>